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dt" idx="7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ftr" idx="7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 type="sldNum" idx="7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BFEC-C19E-4CE0-8122-3B166CA51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5014-3827-4238-B661-8885CB147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PA is an agency of the United States Department of Defense responsible for the new technology development for use by the military.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initial purpose is to find ways to address the US military’s concern about survivability of their communication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 1970s ARPANET became the foundation of today’s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Vinton Cerf and Robert Kahn developed the first description of TCP during 1973, and then in May 1974 the first formal description was publis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ICPA : American Institute of Certified Public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F499-9597-4F98-BD4C-9B2C6B305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F998-5242-433F-A4E2-02EB05285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*) : by Carol L. Cook; “How Computers Have Simplified Accounting”; http://www.yale.edu/ynhti/curriculum/units/1989/7/89.07.06.x.html#e; 18/05/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3BC6-5407-4156-86EF-4AB376BA3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308-92CC-4084-87AE-50258E63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E5B-D4AD-4A20-9328-A082957B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0DEC8-E4E4-465F-ABD2-FFE34384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7CB0B-AA73-4416-8D0B-DA7CFAF6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D36E8-4A51-485E-B126-7576711B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85663-D9CB-4309-80F9-BA1ED01B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68DE0-ECC3-4C18-BD3B-A3C87194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B16A6-EC66-499B-98A9-9F59EC59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3712D-5A6C-4190-A806-441A1D71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D6953-B0F5-44BC-9640-6C54039B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E96B2-7BFE-4407-8B1D-D4B12285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9B9F8-6A70-449A-A7A6-7967261B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35A-966C-4E33-96E3-9C1F6979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FB773-A305-49DC-81D9-BF440118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812DF-9C5E-4245-BBE7-6639A4DD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88B57-B08D-47E4-B015-AA7AD8FB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7D0CE-28A6-47FA-A805-EC2E8F7B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620DA-7E8E-4A54-85B6-214AE592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D0F77-0056-48CC-9FAF-B6491747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B35EA-E8DD-4817-BEDE-5CDD5FA0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63BF7-306F-4B80-92FE-F295AEE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AE4FB-1FF5-42DA-8DA6-E456B2D3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92B1B-4D83-4BFB-A552-62115694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818-95DE-4572-AD67-75033FCE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FB47B-C564-4667-ACF5-87E11B3B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6041C-6BAB-449E-B8F0-8F2A573D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F364A-ED0C-4F79-8B0C-B5A0527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D2282-9EE4-4479-8782-EC10083F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8D53D-123D-4B12-A1F1-D404AB15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B2EB9-B8CD-4508-9FD9-6FA94612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FF9CC-5A6D-41CC-B111-662A67CF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23EB7-0112-4125-9E9B-77BDF54B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E8FCC-8222-4AD9-97C4-40AD2C02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FDDF9-943C-4C52-BC40-79DF0F73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B874-6111-4ECB-9A2B-A8B033D6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0A83F-75A8-44B0-B2C8-9E6FC335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2B065-7FB8-43D5-9433-ABBE9FE3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B7498-1BC2-4477-B5B3-294A268C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AFC55-4291-4833-8D20-8F2324B5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B2417-74B8-4BFB-9E1A-683A6589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1E40E-9BED-4A92-BA77-95522035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6484B-E629-49D0-8024-2F469771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90E08-2216-4416-88BB-6C661D36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01AC7-DC79-4AD5-AC78-77945793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596ED-8282-4D43-B159-2CA2900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B5EB-1A39-4DAD-8127-C07C4AF4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251F3-527A-479D-A2DB-837F963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241E8-AAAE-4D5F-8C84-A321829F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98726-899F-479F-87E5-C6C90B4C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95CB7-F8EF-488B-A013-BFE6CA9A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37BE9-700A-410A-8B60-CDDE6845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2B38E-9456-4150-93F6-9F6C1D2C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7BB85-6EEB-49F6-82B3-DC1B30EA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3051B-1CC2-44AD-BFB3-722694BF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C4875-CCAB-4CE8-AB9E-20715DAC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86C0C-A30B-45F3-8966-E63DFD47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F293-1FD6-45B6-9DBF-735227DB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096CE-1B99-4822-89D5-7A746DC7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B7794-76D9-48A0-8980-92DE7AFB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9261B-E7E1-4469-A4B5-8B66B859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7397D-D89C-4F67-90A2-2E432A74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FEC03-8A9F-45B9-B362-54E2D417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BD23F-9B61-4C11-9870-16A50269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99EBE-D298-4735-A7AF-89095E89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880F1-CDA1-49B5-85B3-1D11868E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9C2DB-44BD-4BDC-82ED-24D51445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AF64D-D47B-4AF4-90B4-02D69BE9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5DF6-C87E-4548-AFD3-F5A24A4C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9CD66-ADE0-4858-8CBF-2807F90B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9F21C-A430-4D5E-85FE-6F7682BA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C3B9B-E09F-4BF0-A6E5-60AE2396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E36AA-4D53-41C6-B10F-AE16336E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48CB3-AED2-4A18-A03E-83A6236E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2788D-AFE2-485F-9A05-748D5DB7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55BF3-B0AE-47A2-A3E7-26BBCA13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1B96D-D5A8-422F-A462-7C9A6CAC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464A7-4B07-4639-BEAC-2C6805C1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2FC0F-3C6C-421F-AB20-75545109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67C6-1802-4963-BFC1-3A6AADD5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F8D52-9785-41A9-994A-9FB1865A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51AD0-1411-4D2D-9906-BC682AEF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2B3E0-7BF5-4F0A-B5C6-084CE897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4DDC4-2220-406F-9B0F-C54620C5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3C009-1973-4E3F-A174-83CD1E7A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56769-3E5E-4901-96C3-D27269AE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CC973-2188-492E-8330-123DDD1A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569D7D-6CD2-4CE8-994A-3B53A198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DA118-CB8B-4E5C-BC91-0EF53455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D3BA4-F1C5-4944-92CB-E046D3A9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20FB-68D1-4954-8D25-87BA94C2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AD82C-E9ED-4396-BDB0-A4F8A177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F98CB-2BD7-4E32-85ED-BF8DD1A0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80F65-05AA-4119-94FB-206A98E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114D8-D99E-4BDC-BDFE-883B2691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E30AB-CB57-413A-B581-F5843F87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0E97B-B9F7-4CDD-A2D0-FA7B7361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22DBB-D4F6-4F5A-9834-6E0ABCCF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1C614-3D28-4C15-AF5E-1C883B4D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8A65D-DE2B-4F98-B39C-48442E1A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0EF15-3B3F-457D-A09C-69E392A0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63E8-5BAC-41F4-A525-EF3E783C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45D5C-B4E4-46F8-A790-7F6646F2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84063-6345-443B-BC54-62789AFF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27ACC-79E0-43D6-8AD4-36EBE0C0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5BE55-7DC5-4AB2-AEB2-1DE549EE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8C4CE-D364-4002-879B-4344DBA5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8FF14F-C1E4-4489-B59C-2A9E3E77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79C66-539C-44D5-939F-C6E4C256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065FFF-4CDC-45AF-8A8B-277CE1B8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562BA-7025-4C8A-AFC8-7F9BA16A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E26CAA-0917-47F9-8A07-A3D0060D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E40-4607-4F10-9375-4B1BD87F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7FEF-00E2-491C-B4A1-AA7F236B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903E4-63C6-4284-9032-66EB26EB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1CCC68-56AB-449E-A60B-00F5E906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AED07-7EBA-4DD9-A823-4664D160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952A3-4D1C-44D8-B926-FC5132DC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52AB29-3E8D-4FE6-904D-3F1E19BA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CDE22B-54AB-47A4-A2A6-601651D5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F4F64F-CA29-4D11-B4D6-7D53BBC6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BA630-4427-4F11-A4EC-EBE43797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62D01-54E1-4076-AD4B-17B0DEA2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D5B2FB-7331-40B9-AC73-E5E95B52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1484-ED22-4D35-AADE-5E35A63A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06447-4B13-438D-A350-BFCF35CB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794521-A9EF-4354-8C02-9E17B3CD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DC8F1F-5973-49EF-B380-3F06E1D0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9D8106-1095-46B7-AD25-73D2D22B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56776-80FB-49A1-8811-DF9D12B8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1E4BD-DA45-40F2-8216-097FA526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87810-3757-4F1C-A885-33C4C54B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0715-540F-4C35-A553-7026222D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679D-4023-470F-91C2-4AB61A0B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686B-0A64-47B5-A6B1-3B1E247D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13D6A89-EA8A-4C77-8393-DAA182F7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8FF012A-903B-499D-8B2C-66BBF817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5F91C2C-E3C3-40E4-B414-6CD2B64A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DE71445-4138-4003-B013-1B2BFBC3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C6699AB-27C1-4750-92C0-CCEB69B3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1BBB593-E841-4013-830F-F988D217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4ABBBA9-3CEE-4819-B262-04DB4CCE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B73CB8D-FBE5-49C2-8F4C-21F93338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B0674DB-1D4A-4795-9FF3-FD91D6A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179ED-7C12-4BE8-9534-BA52D2D8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74600A-B67E-4DA1-8049-F04B3452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34979A0-7023-4953-A861-24BDF923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207D780-A903-47B9-9505-7D823AC5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C21AD1-2069-4504-A536-69A3AECE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0061431-124B-47F7-9D76-F0E51835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A53FFC6-14D4-4937-80CA-0C1708D2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1D36128-FA14-4916-B8D2-AC7C6773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5C03D78-0F2C-43BC-9DFF-6AD31383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184B918-B8ED-46CD-B169-2A35D8BE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420D89B-CF95-4964-B19F-0644E1CE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0AC3-86B0-4367-A5EF-7BC1296E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1B2DA8-5EAF-4F01-A4D2-CF11F2D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0B55BBC-A63D-429A-996C-A434B98B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8869D33-731D-4283-92D1-3AA0DCF6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3451C55-355F-4CD6-8C93-9F45F309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7A2190A-13E5-4912-9348-062467C0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27543FF-E746-4BD4-AB6B-B4372C83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22D7F03-B2F9-4A87-9A62-14991E75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05DC03D-162A-47D6-808B-E2DCD464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89A18CE-5839-4DF6-AE7C-C0E9BB08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CD6C37F-031F-48C6-AAC8-64EF0A84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984B4-3533-4D6C-8850-0B87DED7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9F27F61-0CB9-4010-940D-840792EA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CBB409B-27E8-48B4-95F7-B6DC738D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6CEC765-8759-4C55-895D-0A307EB8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51451B7-3B5D-4A6C-A9D9-0C553FEF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9A3BF19-9379-4DBD-93AB-150E8663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30C03F-7785-4C29-9B1E-DE08902F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97A9C62-5173-4260-9C0C-A11819BA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68512C4-2E93-4721-BDE7-4653F99B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17065A-96D8-416B-A45E-A0F6D84D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9BD3ABE-905A-4F89-9AB0-F15729E0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B41A-930A-4137-9B47-9F6A6484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9C94303-9BDF-4990-81E6-77851CF1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BAB0DD2-FCA0-42E1-BDE5-DD85CDD3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ECE7A83-8000-4509-92D3-D577A15D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C2DA654-8693-4130-A657-7E6CE79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478DD35-ECF1-4E6C-BAB4-3204A939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2558AF8-A598-4255-A235-C76FFB80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AE1DDEB-52C0-4EAC-8D9C-EB9006B8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13056F7-EAE8-4AC1-88A3-ECE5A6EE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728CC59-C57E-4F62-A610-08D0010F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76A1-098C-43DA-A648-1E4292E9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095-2499-4F60-AB3C-520C055A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8C9A-D88C-4B76-A846-739A60B8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88AF-1330-4EEA-BE14-3F0635D3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B555-CA10-4EE7-ACB4-D6EB6788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2C6C-6A53-42DD-9AF0-3B7177EE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BD97-4314-4F63-9535-17DD9516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5BA0E-72F1-467E-8C9C-1B9C565F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82755-AAEF-4C9F-903F-49E8C0BB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0676B-7A00-4E50-80CA-4460C4D2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14771-52B8-4FBC-A317-23911805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EBBB-9D17-462F-8216-A41C31D6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F0B-96D2-444B-AD45-7C0C8490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6C7D-CA7F-4F92-A3CE-C4073B22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5634D-179D-4E6E-8BAE-A113B12D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B260-014F-4C69-A846-1F1F3FA1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47662-CEEB-4B19-8397-4637D736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FB2A-C564-453E-BE2C-B8AF9F99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0D18-C494-4864-9777-9527FBD4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9490A-9D1E-4092-BE57-7FD4F6E4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DEA98-4286-4BB7-A466-95F79E99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8248-4914-45BB-B7D6-16FA6A01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B792A-72E4-4D93-842B-4E358497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E43-F5AF-4E15-A6F5-CC639DAD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9E871-98FD-4F9E-99AB-0C6F3E8B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9D977-CFBE-47B7-A9AC-4B26F27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BD26F-6BA4-4726-9B04-F502FA5F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56E4A-A9ED-43C4-B196-C424EF0C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BB7BB-EA7F-4039-9E39-A5FC5379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2A14A-DD6F-4255-9F11-390FAE11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F6D52-45E9-4703-80D5-E58A5205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41269-8538-43F2-87B9-1455CDF9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072A1-AE78-4C4F-8FF7-FAE92874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4B28-A366-4220-937D-F1B2669E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700-05E8-4582-8843-BCF0AAE6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E3EEE-55FD-4024-BD6D-18DAB339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63C4E-8736-455D-8E1D-BA7B036A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92966-DC92-4D30-8B95-534EB20D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8B833-DB15-416D-A158-A2BD1EB3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ED40B-EE2A-47F8-B318-0F48B6E1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33735-71B2-424C-AA3D-9313C47D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42365-4CB4-4A08-B063-BA5EAFF5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3DB70-4BE8-459B-AD6A-4227069F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D627F-0642-4806-B8C9-38D4D776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EBDFF-3575-48F7-A3D7-BBBB286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89A-E6A3-4695-B0D5-95098ED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EB3BB-D26D-4F20-9BB4-67717AAA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8CD51-75BB-49B6-877E-46DAD359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09C9C-52DA-480B-97E6-7AB92ED2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0DD3C-9969-46B8-8383-F37465B3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B8C93-276C-42FF-8FBE-53C56C77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79D2F-2D98-4722-AFF7-DCB3B2E5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79F5E-0384-47BA-A915-37C25E1B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DDABE-AAE2-4BD5-ACAF-F76AE00B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BB9C4-E627-4EEA-AC56-F3052450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311B2-E88C-4E6A-843F-5A2BF8D1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B98-5C6F-4AC4-84DA-0327CA20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F77EE-B2DA-4746-85E1-70340D28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B755A-F9FF-4C75-BE70-C6916667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D3C35-96B5-4E42-B340-2463A40A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A4B48-F883-48F2-AF48-DF6E71FA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302BB-0C10-4CDE-8AB7-EEDD2E9F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FD337-3E4C-41D0-B55C-72FCB409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9A2B7-3B64-4BBC-A6D6-D8CCC7C2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4459C-650E-4DE2-890B-29E3EE93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EB109-44BF-4A44-912D-6421308C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FCD9A-845B-48C8-BA36-FBB34D05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F3E-2B5D-47CB-8D24-4CEEA55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45CE4-E904-487D-A835-5CE62A83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AC06D-4B00-4432-AC8E-2659F2D2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99C85-AB7B-43AD-A044-2489B3E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C7F77-48BB-4CCF-B985-5ECD8DE4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2D790-4B87-4B41-AD82-7B7AF6D8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9D8D-FE56-4C69-9D12-934AD81F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5CDEB-AC2E-4DF2-AAE9-9E4B0615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E34BC-2061-4D9D-8267-C5EAC6D4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CD7F7-6C68-4C51-89A9-8C8C951E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A4BCD-3E69-49DF-B569-F72FE3C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9C38-FB4B-431A-8E83-395D5ACD44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D8AD-E00D-4372-8860-7CB946A62E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F898-C2AA-4EA0-B9BA-57BF3B69CC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4CC7-23D1-44A2-B899-DA227BC254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BCB8-D792-42D9-9E45-6F17ED8F43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257A-E77C-4870-9CDF-D203C0E39E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9908-FFCE-4350-8E4C-A13760C654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18C3-1F08-46C6-B1FD-EE9AB76F4B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8C69-6158-4E28-B6E7-D9744CE5C6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258B-38DB-4E56-9F37-866536791C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1F29-4DE8-4638-A48C-ACE641AE4E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03B3-274F-4E41-B2FD-614FE3DCC8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BAD4-D222-4B1A-835A-1F09A7F357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4355-9EBD-401F-807D-C46C2174D8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C9A1-ABCC-449A-BFEA-FB4C9DF2AD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826A-0DA4-4C77-A840-A1906C5015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4FCD-5FA0-4714-84C2-29591F282B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8F4E-CCFF-47A6-B831-DD412B2431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F7FB-D8BB-4B22-A127-BA4C7AEB1A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F7AB-6D34-4CDC-BAD2-23C3CC5DCE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EE64-DEDC-44D7-8072-102A1A1DD6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AE36-AC65-4EFA-BDD6-F237E5894D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BUSINESS &amp; INTERNET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761760" y="3809880"/>
            <a:ext cx="7962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By 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2f2f2"/>
                </a:solidFill>
                <a:latin typeface="Calibri"/>
              </a:rPr>
              <a:t>Pablo, Duy and Tao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6307-2581-460E-8CF0-272BC64EB5C7}" type="datetime">
              <a:rPr b="0" i="1" lang="en-US" sz="3100" spc="-1" strike="noStrike">
                <a:solidFill>
                  <a:srgbClr val="f2f2f2"/>
                </a:solidFill>
                <a:latin typeface="Calibri"/>
              </a:rPr>
              <a:t>07/29/26</a:t>
            </a:fld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Application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YOB is a leading international provider of business management solu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5" descr="Myob1.png"/>
          <p:cNvPicPr/>
          <p:nvPr/>
        </p:nvPicPr>
        <p:blipFill>
          <a:blip r:embed="rId1"/>
          <a:stretch/>
        </p:blipFill>
        <p:spPr>
          <a:xfrm>
            <a:off x="6143760" y="1285920"/>
            <a:ext cx="2143080" cy="12859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6" descr="Myob2.png"/>
          <p:cNvPicPr/>
          <p:nvPr/>
        </p:nvPicPr>
        <p:blipFill>
          <a:blip r:embed="rId2"/>
          <a:stretch/>
        </p:blipFill>
        <p:spPr>
          <a:xfrm>
            <a:off x="785880" y="3786120"/>
            <a:ext cx="7072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tiliti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</a:t>
            </a: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pecific fiel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15440" y="68544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E-COMME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sists of the </a:t>
            </a:r>
            <a:r>
              <a:rPr b="0" lang="en-US" sz="3600" spc="-1" strike="noStrike">
                <a:solidFill>
                  <a:srgbClr val="248aea"/>
                </a:solidFill>
                <a:latin typeface="Calibri"/>
              </a:rPr>
              <a:t>bu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4000" spc="-1" strike="noStrike">
                <a:solidFill>
                  <a:srgbClr val="008000"/>
                </a:solidFill>
                <a:latin typeface="Calibri"/>
              </a:rPr>
              <a:t>sell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600" spc="-1" strike="noStrike">
                <a:solidFill>
                  <a:srgbClr val="e03133"/>
                </a:solidFill>
                <a:latin typeface="Calibri"/>
              </a:rPr>
              <a:t>produc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5f0eaa"/>
                </a:solidFill>
                <a:latin typeface="Calibri"/>
              </a:rPr>
              <a:t>service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ver </a:t>
            </a:r>
            <a:r>
              <a:rPr b="0" lang="en-US" sz="3600" spc="-1" strike="noStrike">
                <a:solidFill>
                  <a:srgbClr val="ff6600"/>
                </a:solidFill>
                <a:latin typeface="Calibri"/>
              </a:rPr>
              <a:t>electronic systems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uch as the Internet and other computer networks (en.Wikipedia.org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5" name="AutoShape 2"/>
          <p:cNvSpPr/>
          <p:nvPr/>
        </p:nvSpPr>
        <p:spPr>
          <a:xfrm>
            <a:off x="457200" y="2057400"/>
            <a:ext cx="830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What is E-commer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tiliti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Electronic funds transfer (EFT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Supply chain management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Internet Market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Online transaction processi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Electronic data interchange (EDI)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Inventory management systems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3b86"/>
                </a:solidFill>
                <a:latin typeface="Calibri"/>
              </a:rPr>
              <a:t>Automated data collection systems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8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Picture 4" descr="Errores-comunes-del-SEO-B2B.jpg"/>
          <p:cNvPicPr/>
          <p:nvPr/>
        </p:nvPicPr>
        <p:blipFill>
          <a:blip r:embed="rId1"/>
          <a:stretch/>
        </p:blipFill>
        <p:spPr>
          <a:xfrm>
            <a:off x="4495680" y="3124080"/>
            <a:ext cx="38419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pecific fiel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1" name="Content Placeholder 2" descr=""/>
          <p:cNvPicPr/>
          <p:nvPr/>
        </p:nvPicPr>
        <p:blipFill>
          <a:blip r:embed="rId1"/>
          <a:stretch/>
        </p:blipFill>
        <p:spPr>
          <a:xfrm>
            <a:off x="401760" y="2724120"/>
            <a:ext cx="8327880" cy="3530520"/>
          </a:xfrm>
          <a:prstGeom prst="rect">
            <a:avLst/>
          </a:prstGeom>
          <a:ln w="0">
            <a:noFill/>
          </a:ln>
        </p:spPr>
      </p:pic>
      <p:sp>
        <p:nvSpPr>
          <p:cNvPr id="1122" name="AutoShape 2"/>
          <p:cNvSpPr/>
          <p:nvPr/>
        </p:nvSpPr>
        <p:spPr>
          <a:xfrm>
            <a:off x="41580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  <a:ea typeface="MS PGothic"/>
              </a:rPr>
              <a:t>E-COMM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Picture 6" descr="diagram_supplychain.jpg"/>
          <p:cNvPicPr/>
          <p:nvPr/>
        </p:nvPicPr>
        <p:blipFill>
          <a:blip r:embed="rId2"/>
          <a:stretch/>
        </p:blipFill>
        <p:spPr>
          <a:xfrm>
            <a:off x="4038480" y="2743200"/>
            <a:ext cx="4114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15440" y="2437920"/>
            <a:ext cx="789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1"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NTERNET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Important tool for business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Made business easier and faster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Have changed the way how companies encourage consumers  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404040"/>
                </a:solidFill>
                <a:latin typeface="Calibri"/>
              </a:rPr>
              <a:t>FUTURE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Companies working only through internet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Non presential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lvl="2" marL="457200" indent="-22860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404040"/>
                </a:solidFill>
                <a:latin typeface="Calibri"/>
              </a:rPr>
              <a:t>Online office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FERENCE LI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415440" y="2755440"/>
            <a:ext cx="8309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ikipedia – E-commerce’, http://en.wikipedia.org/wiki/E-commerce , 22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ikipedia – Internet’, http://en.wikipedia.org/wiki/Internet , 22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Ultimosoft – Supply chain’, http://www.ultimosoft.com/industry/supplychain.html, 24/05/20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arol L. Cook; ‘How Computers Have Simplified Accounting’; http://www.yale.edu/ynhti/curriculum/units/1989/7/89.07.06.x.html#e; 18/05/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ww.accountingcoach.com , 18/05/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ww.myob.com, 18/05/10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44040" y="990360"/>
            <a:ext cx="225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1143000" y="4038480"/>
            <a:ext cx="65419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b86"/>
                </a:solidFill>
                <a:latin typeface="Calibri"/>
              </a:rPr>
              <a:t>THANK YOU FOR LISTENING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.=!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130" name="Picture 4" descr="pirate63"/>
          <p:cNvPicPr/>
          <p:nvPr/>
        </p:nvPicPr>
        <p:blipFill>
          <a:blip r:embed="rId1"/>
          <a:stretch/>
        </p:blipFill>
        <p:spPr>
          <a:xfrm>
            <a:off x="2878200" y="228600"/>
            <a:ext cx="2913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Introd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dern us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clu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feren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Introdu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net His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 (Advanced Research Project Agency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 Foundation of Inter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685800" indent="-228600">
              <a:spcBef>
                <a:spcPts val="6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RPANE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CP (Transmission Control Protocol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Internet”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dern 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E-COMMER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Old metho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Calibri"/>
              </a:rPr>
              <a:t>Use of computer and internet in Accoun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5440" y="2057400"/>
            <a:ext cx="83091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What is Accounting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RT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of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cord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assify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ummarizing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in a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significant manner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d in terms of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money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transaction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events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which are, in part at least, of </a:t>
            </a:r>
            <a:r>
              <a:rPr b="0" lang="en-US" sz="3200" spc="-1" strike="noStrike">
                <a:solidFill>
                  <a:srgbClr val="3c653c"/>
                </a:solidFill>
                <a:latin typeface="Calibri"/>
              </a:rPr>
              <a:t>financial character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3c653c"/>
                </a:solidFill>
                <a:latin typeface="Calibri"/>
              </a:rPr>
              <a:t>interpreting the results thereof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AICPA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2" name="Picture 5" descr="MoneyChart.jpg"/>
          <p:cNvPicPr/>
          <p:nvPr/>
        </p:nvPicPr>
        <p:blipFill>
          <a:blip r:embed="rId1"/>
          <a:stretch/>
        </p:blipFill>
        <p:spPr>
          <a:xfrm>
            <a:off x="5572080" y="214200"/>
            <a:ext cx="3286080" cy="1704960"/>
          </a:xfrm>
          <a:prstGeom prst="rect">
            <a:avLst/>
          </a:prstGeom>
          <a:ln w="0">
            <a:noFill/>
          </a:ln>
        </p:spPr>
      </p:pic>
      <p:sp>
        <p:nvSpPr>
          <p:cNvPr id="1093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nual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 bookkeeper kept the journals, the accounts receivable, the accounts payable and the ledgers in his best possible penmanship</a:t>
            </a:r>
            <a:r>
              <a:rPr b="0" lang="en-US" sz="20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096" name="Picture 6" descr="Accounting[1].jpg"/>
          <p:cNvPicPr/>
          <p:nvPr/>
        </p:nvPicPr>
        <p:blipFill>
          <a:blip r:embed="rId1"/>
          <a:stretch/>
        </p:blipFill>
        <p:spPr>
          <a:xfrm>
            <a:off x="1357200" y="3929040"/>
            <a:ext cx="7072560" cy="2428920"/>
          </a:xfrm>
          <a:prstGeom prst="rect">
            <a:avLst/>
          </a:prstGeom>
          <a:ln w="0">
            <a:noFill/>
          </a:ln>
        </p:spPr>
      </p:pic>
      <p:sp>
        <p:nvSpPr>
          <p:cNvPr id="1097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Computerise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ne of the first accounting programs was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otus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1-2-3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(1983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mall test</a:t>
            </a:r>
            <a:r>
              <a:rPr b="0" lang="en-US" sz="2400" spc="-1" strike="noStrike" baseline="30000">
                <a:solidFill>
                  <a:srgbClr val="404040"/>
                </a:solidFill>
                <a:latin typeface="Calibri"/>
              </a:rPr>
              <a:t>(*)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2743200" y="3627360"/>
          <a:ext cx="5553000" cy="2773440"/>
        </p:xfrm>
        <a:graphic>
          <a:graphicData uri="http://schemas.openxmlformats.org/drawingml/2006/table">
            <a:tbl>
              <a:tblPr/>
              <a:tblGrid>
                <a:gridCol w="2751120"/>
                <a:gridCol w="28018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-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 minutes to set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inutes to perform the compu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 seconds to load the spreadsh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minutes to input the inform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ss than one second for it to be tabulated and pri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</a:tbl>
          </a:graphicData>
        </a:graphic>
      </p:graphicFrame>
      <p:sp>
        <p:nvSpPr>
          <p:cNvPr id="1101" name="AutoShape 2"/>
          <p:cNvSpPr/>
          <p:nvPr/>
        </p:nvSpPr>
        <p:spPr>
          <a:xfrm>
            <a:off x="38088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net and Account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rai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re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asy to get acc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hanging the way people learn accoun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4" name="AutoShape 2"/>
          <p:cNvSpPr/>
          <p:nvPr/>
        </p:nvSpPr>
        <p:spPr>
          <a:xfrm>
            <a:off x="453960" y="68580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CO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6" descr="AC1.png"/>
          <p:cNvPicPr/>
          <p:nvPr/>
        </p:nvPicPr>
        <p:blipFill>
          <a:blip r:embed="rId1"/>
          <a:stretch/>
        </p:blipFill>
        <p:spPr>
          <a:xfrm>
            <a:off x="642960" y="4643280"/>
            <a:ext cx="771516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3:50:56Z</dcterms:created>
  <dc:creator>Microsoft</dc:creator>
  <dc:description/>
  <dc:language>en-US</dc:language>
  <cp:lastModifiedBy>ict</cp:lastModifiedBy>
  <dcterms:modified xsi:type="dcterms:W3CDTF">2010-05-25T13:09:59Z</dcterms:modified>
  <cp:revision>46</cp:revision>
  <dc:subject/>
  <dc:title>Internet</dc:title>
</cp:coreProperties>
</file>